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EA59A-476F-4E78-9DA6-8BD599DB46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3763F-EA03-463E-B1FF-C8AB12ED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ght religious freedom rather than simply pro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99D9D-FC9F-4A79-9A71-AC31B14E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g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7B69D-BE4A-491D-985F-9A6C4FE2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and in the New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27FA-34C0-4CA5-BD50-3352E0BE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A4809-280D-4681-9CEE-5D1C254D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ists, not Church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purpose, not profit purp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0282D-A523-4E30-987C-555EB882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D7E-E3EE-4EA1-A534-FD846D9E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005-199D-4C21-B837-2BDF4074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468-120D-4AE8-8DAD-28DC91FE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7F6-8C92-4DBD-AA35-EBE7520C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F07-70AA-4908-BFDA-1AC950D0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20E-3629-4598-A2C3-7CA299D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F7A-CA65-4C04-8161-9BBF384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A7D-FC50-4CFA-A353-EE2574C2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136-DF87-4B54-95D3-57A8A2BD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4B0-6BD1-4C6B-978A-5829AE6F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80F-59B2-4104-91D2-7E4668E0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A16-521E-4DFB-BA3C-8FE708B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EA23C-0933-4F8F-918A-A94DAA437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092CB-6313-4CEC-B656-DC7CD03FF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139040" y="990720"/>
            <a:ext cx="704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w: (write in spiral noteboo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at Roano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John Smith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the Pilgrims w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447920" y="762120"/>
            <a:ext cx="601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ick Wri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re the settlers of Plymouth different from the settlers of Virgin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 in your composition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38080" y="76212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the Plymouth colonists govern themsel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yflower Compact differed from the House of Burgesses down in Jamestown, Virgi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and equal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concept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elf-ru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meri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38080" y="609480"/>
            <a:ext cx="739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Plymouth succ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landed in 16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soit wanted an alliance with the Englis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soit sent Squanto to help the English grow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ilgrims gave “Thanksgiving” the next f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lony developed fishing and lo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massasoit-lg-001_002_1_29.jpg"/>
          <p:cNvPicPr/>
          <p:nvPr/>
        </p:nvPicPr>
        <p:blipFill>
          <a:blip r:embed="rId1"/>
          <a:stretch/>
        </p:blipFill>
        <p:spPr>
          <a:xfrm>
            <a:off x="704880" y="533520"/>
            <a:ext cx="7867800" cy="5244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082960" y="5803920"/>
            <a:ext cx="49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 discu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_squanto_Squantoteaching.png"/>
          <p:cNvPicPr/>
          <p:nvPr/>
        </p:nvPicPr>
        <p:blipFill>
          <a:blip r:embed="rId1"/>
          <a:stretch/>
        </p:blipFill>
        <p:spPr>
          <a:xfrm>
            <a:off x="2362320" y="457200"/>
            <a:ext cx="4502160" cy="386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523880" y="43243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Squanto and his chief, Massasoit, every last Pilgrim would have di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first_thanksgiving_brownscomb.jpg"/>
          <p:cNvPicPr/>
          <p:nvPr/>
        </p:nvPicPr>
        <p:blipFill>
          <a:blip r:embed="rId1"/>
          <a:stretch/>
        </p:blipFill>
        <p:spPr>
          <a:xfrm>
            <a:off x="914400" y="304920"/>
            <a:ext cx="7454880" cy="4933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80880" y="5238720"/>
            <a:ext cx="83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ainting of 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anksgiving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ets pushed to the back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838080" y="7621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gini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lig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para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soit/Squa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066680" y="1066680"/>
            <a:ext cx="7010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o settled Jamest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glish founded Jamestown in 160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ginia Company of London was 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rcant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to trade with Native Americans and 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752480" y="692280"/>
            <a:ext cx="678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is a charter?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o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ter =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t of rights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y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from Latin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er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mea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nhabit, cultivate, guar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glish colonie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abite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New World and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arde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economic interests of 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ic_Jamestown-ships-NOAA.jpg"/>
          <p:cNvPicPr/>
          <p:nvPr/>
        </p:nvPicPr>
        <p:blipFill>
          <a:blip r:embed="rId1"/>
          <a:stretch/>
        </p:blipFill>
        <p:spPr>
          <a:xfrm>
            <a:off x="838080" y="457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219320" y="541008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s of ships the Jamestown colonists would hav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838080" y="762120"/>
            <a:ext cx="7696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Jamestown succ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 was the first ________ English colony in the New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lonists did not want to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tribe saved the coloni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Smith =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not, eat no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 = success for Jamestown (John Rolf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066680" y="762120"/>
            <a:ext cx="7010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the people of Jamestown gov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ve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gislature shared power with the Govern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ed to the King of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from Magna Carta in 12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1219320" y="533520"/>
            <a:ext cx="685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slavery start in the British colonies of the New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tch ship arrived in 161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first, the Africans were indentured servants—they could work their way out of the agre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everything changed in the late 160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66680" y="990720"/>
            <a:ext cx="716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ree things that made the Pilgrims the core of the new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rience. How did they end up playing a role that would make Americ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places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04920" y="30492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the colonists at Plymouth differ from the colonists at Jamest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paratist Pilgrims wanted to “separate” from the Church of England. The Jamestown colonists were “followers” of the Church of Eng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paratist Pilgrims were trying to reach Jamestown (for safety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d weather changed dest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30:00Z</dcterms:created>
  <dc:creator>Thomas Hagerty</dc:creator>
  <dc:description/>
  <dc:language>en-US</dc:language>
  <cp:lastModifiedBy>Thomas Hagerty</cp:lastModifiedBy>
  <cp:lastPrinted>2011-09-29T11:30:36Z</cp:lastPrinted>
  <dcterms:modified xsi:type="dcterms:W3CDTF">2014-10-09T19:06:35Z</dcterms:modified>
  <cp:revision>117</cp:revision>
  <dc:subject/>
  <dc:title>Slide 1</dc:title>
</cp:coreProperties>
</file>